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8.png" ContentType="image/png"/>
  <Override PartName="/ppt/media/image33.png" ContentType="image/png"/>
  <Override PartName="/ppt/media/image14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1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5AC-C177-4CC6-9460-CF4DD39A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3B0-E57A-4874-9359-96A2340E1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176-4294-4A53-A589-A5A211A3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B3F-8258-41C0-B120-4754BA86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451F-07A9-4A61-887B-799FB01C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A128-E238-4750-836D-0CC4A3A2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EE66-FDA7-4A3C-8B18-4FAAC36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C45B-9138-42E3-B736-EE8323C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BB9E-9DCD-41D2-B2B9-1E02A8D7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3A86-6744-4C37-9600-6D8CE3EE8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DB23-0A54-44BE-AC06-0AACD82F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1B4-9367-4431-97F5-B45670CD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0A82-B904-4C48-BCC7-F4880E59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089D-2874-4F57-A1D3-39E230FA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DED5-36B2-49FA-95AD-439F1C83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246D-F516-4C61-9072-1FB6760B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D73B-EAD2-4DA8-BE2F-BAFF71CE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917-FF44-43D1-A175-14A7AB5E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734-4602-4E15-B2FE-CC1A3F67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DF6-A9CC-4436-A266-4D77DE2B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0F13-739E-4FAF-956D-A81C4FD9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893-DB60-4784-B846-CC98126F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3088-EF0C-4D55-A832-9D3DA53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E77D-A45F-4075-BDE0-C7E0736F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F4D1-36C8-455E-B2FE-B45F30D60BD4}" type="slidenum"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4CAB-079E-47DA-966A-85E98A88891E}" type="slidenum">
              <a:rPr b="1" lang="en-CA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.ec.gc.ca/greatlakes/default.asp?lang=En&amp;n=5CAD4495-1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on.ec.gc.ca/greatlakes/default.asp?lang=En&amp;n=5CAD4495-1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on.ec.gc.ca/greatlakes/default.asp?lang=En&amp;n=5CAD4495-1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www.on.ec.gc.ca/greatlakes/default.asp?lang=En&amp;n=5CAD4495-1" TargetMode="External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hyperlink" Target="http://www.on.ec.gc.ca/greatlakes/default.asp?lang=En&amp;n=5CAD4495-1" TargetMode="External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Gavin_Plant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en.wikipedia.org/wiki/Image:Origins.gif" TargetMode="Externa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[Picture of Toronto]"/>
          <p:cNvPicPr/>
          <p:nvPr/>
        </p:nvPicPr>
        <p:blipFill>
          <a:blip r:embed="rId1"/>
          <a:stretch/>
        </p:blipFill>
        <p:spPr>
          <a:xfrm>
            <a:off x="838080" y="609480"/>
            <a:ext cx="4864320" cy="378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258920" y="3716280"/>
            <a:ext cx="3085920" cy="2438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029200" y="327672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MIXEDWOOD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762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Toro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Air Pollu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3657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Smo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5877000" cy="3914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MIXEDWOOD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3029040" cy="232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85800" y="4648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Landfi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21477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Garb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438280" y="4495680"/>
            <a:ext cx="3009960" cy="2028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553080" y="685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3366"/>
                </a:solidFill>
                <a:latin typeface="Arial"/>
              </a:rPr>
              <a:t>Toronto exporting waste to Michiga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352680" y="685800"/>
            <a:ext cx="5638320" cy="2457000"/>
            <a:chOff x="3352680" y="685800"/>
            <a:chExt cx="5638320" cy="2457000"/>
          </a:xfrm>
        </p:grpSpPr>
        <p:pic>
          <p:nvPicPr>
            <p:cNvPr id="104" name="" descr="View Lake Michigan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352680" y="2129400"/>
              <a:ext cx="2310840" cy="1013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" name=""/>
            <p:cNvGrpSpPr/>
            <p:nvPr/>
          </p:nvGrpSpPr>
          <p:grpSpPr>
            <a:xfrm>
              <a:off x="3352680" y="685800"/>
              <a:ext cx="5638320" cy="2456280"/>
              <a:chOff x="3352680" y="685800"/>
              <a:chExt cx="5638320" cy="2456280"/>
            </a:xfrm>
          </p:grpSpPr>
          <p:pic>
            <p:nvPicPr>
              <p:cNvPr id="106" name="" descr="View Lake Superior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3352680" y="685800"/>
                <a:ext cx="2310840" cy="14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View Lake Huron">
                <a:hlinkClick r:id="rId5"/>
              </p:cNvPr>
              <p:cNvPicPr/>
              <p:nvPr/>
            </p:nvPicPr>
            <p:blipFill>
              <a:blip r:embed="rId6"/>
              <a:stretch/>
            </p:blipFill>
            <p:spPr>
              <a:xfrm>
                <a:off x="5261760" y="685800"/>
                <a:ext cx="1733400" cy="14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View Lake Ontario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6920280" y="685800"/>
                <a:ext cx="2070720" cy="145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r2c2"/>
              <p:cNvPicPr/>
              <p:nvPr/>
            </p:nvPicPr>
            <p:blipFill>
              <a:blip r:embed="rId9"/>
              <a:stretch/>
            </p:blipFill>
            <p:spPr>
              <a:xfrm>
                <a:off x="5261760" y="2129040"/>
                <a:ext cx="1733400" cy="1013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View Lake Erie">
                <a:hlinkClick r:id="rId10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6920280" y="2129040"/>
                <a:ext cx="2070720" cy="1013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1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MIXEDWOOD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2"/>
          <a:stretch/>
        </p:blipFill>
        <p:spPr>
          <a:xfrm>
            <a:off x="380880" y="1600200"/>
            <a:ext cx="2971800" cy="166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rcRect l="3860" t="4750" r="74282" b="52527"/>
          <a:stretch/>
        </p:blipFill>
        <p:spPr>
          <a:xfrm>
            <a:off x="1600200" y="3886200"/>
            <a:ext cx="1774800" cy="2819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rcRect l="61738" t="3164" r="3536" b="68356"/>
          <a:stretch/>
        </p:blipFill>
        <p:spPr>
          <a:xfrm>
            <a:off x="5638680" y="403848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715000" y="3657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Water Pol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ew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5"/>
          <a:stretch/>
        </p:blipFill>
        <p:spPr>
          <a:xfrm>
            <a:off x="3505320" y="36576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The coal-fired Gavin power plant in Cheshire, Oh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447920"/>
            <a:ext cx="3295440" cy="2471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Processes involved in acid deposition (note that only SO2 and NOx play a significant role in acid rain)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2590920"/>
            <a:ext cx="4957560" cy="3343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663300"/>
                </a:solidFill>
                <a:latin typeface="Arial"/>
              </a:rPr>
              <a:t>BOREAL SHIELD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Power Pla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1500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Acid Ra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990720"/>
            <a:ext cx="3124440" cy="8380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Toxic Chemica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095560" cy="2219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251080" cy="167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Photo of Irving Pulp and Paper"/>
          <p:cNvPicPr/>
          <p:nvPr/>
        </p:nvPicPr>
        <p:blipFill>
          <a:blip r:embed="rId3"/>
          <a:stretch/>
        </p:blipFill>
        <p:spPr>
          <a:xfrm>
            <a:off x="2057400" y="152388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663300"/>
                </a:solidFill>
                <a:latin typeface="Arial"/>
              </a:rPr>
              <a:t>BOREAL SHIELD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1066680"/>
            <a:ext cx="29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066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Pulp and Paper M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1523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Air Pol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2362320"/>
            <a:ext cx="2286000" cy="1143000"/>
          </a:xfrm>
          <a:prstGeom prst="flowChartMagneticTap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Water Pollu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290760" cy="32907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4191120" cy="3141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logging truck"/>
          <p:cNvPicPr/>
          <p:nvPr/>
        </p:nvPicPr>
        <p:blipFill>
          <a:blip r:embed="rId3"/>
          <a:stretch/>
        </p:blipFill>
        <p:spPr>
          <a:xfrm>
            <a:off x="4724280" y="304920"/>
            <a:ext cx="1886040" cy="2609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663300"/>
                </a:solidFill>
                <a:latin typeface="Arial"/>
              </a:rPr>
              <a:t>BOREAL SHIELD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Clear-cut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533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Forest Indus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502920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Limited number of tree species being replant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5638680"/>
            <a:ext cx="3276720" cy="10670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Arial"/>
              </a:rPr>
              <a:t>Biodiversity Decrea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My brother Pete bringing in a big one."/>
          <p:cNvPicPr/>
          <p:nvPr/>
        </p:nvPicPr>
        <p:blipFill>
          <a:blip r:embed="rId1"/>
          <a:stretch/>
        </p:blipFill>
        <p:spPr>
          <a:xfrm>
            <a:off x="609480" y="1676520"/>
            <a:ext cx="2511720" cy="2173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90720" y="3733920"/>
            <a:ext cx="242892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3366"/>
                </a:solidFill>
                <a:latin typeface="Arial"/>
              </a:rPr>
              <a:t>PACIFIC MARITIME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almon Fis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owl"/>
          <p:cNvPicPr/>
          <p:nvPr/>
        </p:nvPicPr>
        <p:blipFill>
          <a:blip r:embed="rId3"/>
          <a:stretch/>
        </p:blipFill>
        <p:spPr>
          <a:xfrm>
            <a:off x="7391520" y="838080"/>
            <a:ext cx="1096920" cy="1762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809880" y="182880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Ontario's largest beech tree. Photo by Molly Crealock"/>
          <p:cNvPicPr/>
          <p:nvPr/>
        </p:nvPicPr>
        <p:blipFill>
          <a:blip r:embed="rId5"/>
          <a:stretch/>
        </p:blipFill>
        <p:spPr>
          <a:xfrm>
            <a:off x="6453360" y="3048120"/>
            <a:ext cx="2238120" cy="3352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438280" y="838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 Black"/>
              </a:rPr>
              <a:t>Natural Re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67080" y="4343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ld-growth Fore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5791320"/>
            <a:ext cx="3276360" cy="7617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Defores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791320"/>
            <a:ext cx="3276720" cy="8380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ver Fis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76720" y="49528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4032000" cy="268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6600"/>
                </a:solidFill>
                <a:latin typeface="Arial"/>
              </a:rPr>
              <a:t>TAIGA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523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Pipe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57800" y="1828800"/>
            <a:ext cx="3484440" cy="4238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257800" y="1219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Natural G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2898" t="2102" r="1453" b="1446"/>
          <a:stretch/>
        </p:blipFill>
        <p:spPr>
          <a:xfrm>
            <a:off x="380880" y="1066680"/>
            <a:ext cx="5029200" cy="3505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3810240" cy="235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38080" y="1522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6600"/>
                </a:solidFill>
                <a:latin typeface="Arial"/>
              </a:rPr>
              <a:t>TAIGA PLAINS ECOZO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Mackenzie Riv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762120"/>
            <a:ext cx="5105520" cy="1600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Some Dene People oppo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00"/>
                </a:solidFill>
                <a:latin typeface="Arial"/>
              </a:rPr>
              <a:t>the pipelin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20:21:49Z</dcterms:created>
  <dc:creator>COE Master</dc:creator>
  <dc:description/>
  <dc:language>en-US</dc:language>
  <cp:lastModifiedBy>Customer</cp:lastModifiedBy>
  <dcterms:modified xsi:type="dcterms:W3CDTF">2010-11-01T17:29:30Z</dcterms:modified>
  <cp:revision>46</cp:revision>
  <dc:subject/>
  <dc:title>Slide 1</dc:title>
</cp:coreProperties>
</file>